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D0E-46E3-4F94-9430-EBE0CD68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D35-4E7B-4DBC-9FF4-A1A64154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41B-12C8-401B-AFF3-7F588D88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5E2-64C7-4FB7-90F9-715ABD73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162-67D0-4B17-A554-511B462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F20-0F23-4073-B5C5-DA4150D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241-4AE1-4BF1-8B08-D0E0989B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8BB-A8A5-4B75-8786-76A1AB08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E2E-8F5E-4B1E-B98A-0CA31B86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5E5-B103-4D2E-BD4C-DCF85BB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F58-FF8F-4331-8A37-A0DFAC5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F96-434F-47E0-9AC8-6D1AF47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AE89-8D68-49B9-9C9B-92DF0F8E9E5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2T11:27:53Z</dcterms:modified>
  <cp:revision>173</cp:revision>
  <dc:subject/>
  <dc:title>PowerPoint</dc:title>
</cp:coreProperties>
</file>